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32.jpeg" ContentType="image/jpeg"/>
  <Override PartName="/ppt/media/image19.wmf" ContentType="image/x-wmf"/>
  <Override PartName="/ppt/media/image18.png" ContentType="image/png"/>
  <Override PartName="/ppt/media/image37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28.wmf" ContentType="image/x-wmf"/>
  <Override PartName="/ppt/media/image10.png" ContentType="image/png"/>
  <Override PartName="/ppt/media/image30.wmf" ContentType="image/x-wmf"/>
  <Override PartName="/ppt/media/image5.wmf" ContentType="image/x-wmf"/>
  <Override PartName="/ppt/media/image31.wmf" ContentType="image/x-wmf"/>
  <Override PartName="/ppt/media/image11.png" ContentType="image/png"/>
  <Override PartName="/ppt/media/image36.png" ContentType="image/png"/>
  <Override PartName="/ppt/media/image6.png" ContentType="image/png"/>
  <Override PartName="/ppt/media/image35.png" ContentType="image/png"/>
  <Override PartName="/ppt/media/image13.jpeg" ContentType="image/jpeg"/>
  <Override PartName="/ppt/media/image38.png" ContentType="image/png"/>
  <Override PartName="/ppt/media/image8.jpeg" ContentType="image/jpeg"/>
  <Override PartName="/ppt/media/image29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.png" ContentType="image/png"/>
  <Override PartName="/ppt/media/image25.jpeg" ContentType="image/jpeg"/>
  <Override PartName="/ppt/media/image1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gif" ContentType="image/gif"/>
  <Override PartName="/ppt/media/image2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55BDB-BB0E-4062-9B06-A4FFD48AD1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IL as w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ograph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rama….all need im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ED538-6EE7-4AC4-816C-ED2BA6CE03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AA3C7-5476-45B9-ACED-0AE91E8436B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 to phonics stuff from me, Suzi and Rachael Hawkes…remember to give all credits - im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s to blogs / wikis / podc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7184-FAFA-4613-B7D3-11E9F9ADD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1FDB-145F-42DD-BFAE-C55B6710C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C49F-1257-4109-B41C-1B21A87D7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9C48-8E07-4E51-A6CC-87933BB74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EE13-A171-402D-BB5D-ABB7B7F2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ACE1-E45E-4923-9330-A784A8665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9864-5676-4197-84F7-82AE2986C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6F17-A5B8-47DE-BFF9-89341DD06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D617-657B-4F89-9845-8115CD869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D535-C595-4C9C-B039-E2AEFE95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5002-ECD8-4751-8685-6F339A32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E3E0-5FD1-40B4-A753-8AF37062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46636-99E2-45D8-ADCC-D4D4D9461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glogster.com/" TargetMode="External"/><Relationship Id="rId2" Type="http://schemas.openxmlformats.org/officeDocument/2006/relationships/hyperlink" Target="http://s003.langwitch.edu.glogster.com/glog-332/" TargetMode="External"/><Relationship Id="rId3" Type="http://schemas.openxmlformats.org/officeDocument/2006/relationships/hyperlink" Target="http://s003.langwitch.edu.glogster.com/glog-332/" TargetMode="External"/><Relationship Id="rId4" Type="http://schemas.openxmlformats.org/officeDocument/2006/relationships/hyperlink" Target="http://s004.langwitch.edu.glogster.com/glog-ejf/" TargetMode="External"/><Relationship Id="rId5" Type="http://schemas.openxmlformats.org/officeDocument/2006/relationships/hyperlink" Target="http://s004.langwitch.edu.glogster.com/glog-ejf/" TargetMode="External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all-nsc.org.uk/nsc/" TargetMode="External"/><Relationship Id="rId2" Type="http://schemas.openxmlformats.org/officeDocument/2006/relationships/hyperlink" Target="http://www.rachelhawkes.typepad.com/" TargetMode="External"/><Relationship Id="rId3" Type="http://schemas.openxmlformats.org/officeDocument/2006/relationships/hyperlink" Target="http://www.isabellejones.blogspot.com/" TargetMode="External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helenabutterfield.net/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www.youtube.com/watch?v=tgOcr_EFBsE" TargetMode="External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png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jpeg"/><Relationship Id="rId6" Type="http://schemas.openxmlformats.org/officeDocument/2006/relationships/image" Target="../media/image22.wmf"/><Relationship Id="rId7" Type="http://schemas.openxmlformats.org/officeDocument/2006/relationships/image" Target="../media/image23.wmf"/><Relationship Id="rId8" Type="http://schemas.openxmlformats.org/officeDocument/2006/relationships/image" Target="../media/image24.wmf"/><Relationship Id="rId9" Type="http://schemas.openxmlformats.org/officeDocument/2006/relationships/image" Target="../media/image25.jpeg"/><Relationship Id="rId10" Type="http://schemas.openxmlformats.org/officeDocument/2006/relationships/image" Target="../media/image26.wmf"/><Relationship Id="rId11" Type="http://schemas.openxmlformats.org/officeDocument/2006/relationships/image" Target="../media/image27.wmf"/><Relationship Id="rId12" Type="http://schemas.openxmlformats.org/officeDocument/2006/relationships/image" Target="../media/image28.wmf"/><Relationship Id="rId13" Type="http://schemas.openxmlformats.org/officeDocument/2006/relationships/image" Target="../media/image29.jpeg"/><Relationship Id="rId14" Type="http://schemas.openxmlformats.org/officeDocument/2006/relationships/image" Target="../media/image30.wmf"/><Relationship Id="rId15" Type="http://schemas.openxmlformats.org/officeDocument/2006/relationships/image" Target="../media/image31.wmf"/><Relationship Id="rId16" Type="http://schemas.openxmlformats.org/officeDocument/2006/relationships/image" Target="../media/image32.jpeg"/><Relationship Id="rId17" Type="http://schemas.openxmlformats.org/officeDocument/2006/relationships/slide" Target="slide8.xml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ll-nsc.org.uk/nsc/" TargetMode="External"/><Relationship Id="rId2" Type="http://schemas.openxmlformats.org/officeDocument/2006/relationships/hyperlink" Target="http://www.all-nsc.org.uk/nsc/" TargetMode="External"/><Relationship Id="rId3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all-nsc.org.uk/nsc/?q=node/86" TargetMode="External"/><Relationship Id="rId3" Type="http://schemas.openxmlformats.org/officeDocument/2006/relationships/hyperlink" Target="http://www.all-nsc.org.uk/nsc/?q=node/86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hyperlink" Target="http://www.langwitch.org/stmichaelsmfl" TargetMode="External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cing up your Y7 S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3428640"/>
            <a:ext cx="662616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elena Butter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D MFL St. Michael’s RC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nks into Languages Tr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Twinning Ambass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2087280" cy="21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lena Butterfield/Stockton LA CP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évasacomprarparatuherman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é vas a comprar para tu herman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uelleestladatedetonanniversai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uelle est la date de ton anniversai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lena Butterfield/Stockton LA CP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4149360"/>
            <a:ext cx="4176720" cy="18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*c*   b**n   t**mp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Object 5"/>
          <p:cNvGraphicFramePr/>
          <p:nvPr/>
        </p:nvGraphicFramePr>
        <p:xfrm>
          <a:off x="4572000" y="2205000"/>
          <a:ext cx="3809880" cy="13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205000"/>
                    <a:ext cx="380988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Text Box 7"/>
          <p:cNvSpPr/>
          <p:nvPr/>
        </p:nvSpPr>
        <p:spPr>
          <a:xfrm flipV="1">
            <a:off x="5292720" y="42181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 ne suis pas sport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lena Butterfield/Stockton LA CP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ho wants to be a Millionai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1066680" y="2133720"/>
            <a:ext cx="7010640" cy="4529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lena Butterfield/Stockton LA CP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ompet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162828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- Answer this question in just </a:t>
            </a: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wor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Tu as un animal à la maison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- Answer the same question in </a:t>
            </a: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12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or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Draw image on partner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s back – school subje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Running dicta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lena Butterfield/Stockton LA CP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rouvez l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int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bière, vin, café, cogna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potage, glace, fromage, tar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chou, pomme, carotte, radi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cuiller, couteau, verre, fourchet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Vous avez choisi?, Vous avez une table sur la terrasse?, Vous êtes combien de personnes?, Et comme dessert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lena Butterfield/Stockton LA CP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3" dur="1" fill="hold"/>
                                  <p:tgtEl>
                                    <p:spTgt spid="98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nn Dia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Content Placeholder 4" descr=""/>
          <p:cNvPicPr/>
          <p:nvPr/>
        </p:nvPicPr>
        <p:blipFill>
          <a:blip r:embed="rId1"/>
          <a:srcRect l="11634" t="19734" r="26712" b="19734"/>
          <a:stretch/>
        </p:blipFill>
        <p:spPr>
          <a:xfrm>
            <a:off x="1042920" y="1341360"/>
            <a:ext cx="7058160" cy="496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lena Butterfield/Stockton LA CP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oss curricular li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628640"/>
            <a:ext cx="37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Agency FB"/>
              </a:rPr>
              <a:t>Geograp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35640" y="141300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3e336"/>
                </a:solidFill>
                <a:latin typeface="Australian Sunrise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26920" y="3645000"/>
            <a:ext cx="165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3601"/>
                </a:solidFill>
                <a:latin typeface="Andalus"/>
              </a:rPr>
              <a:t>Mus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87640" y="3573360"/>
            <a:ext cx="31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Tech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48360" y="4797360"/>
            <a:ext cx="30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Lucida Calligraphy"/>
              </a:rPr>
              <a:t>Dra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48000" y="134136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ngsanaUPC"/>
              </a:rPr>
              <a:t>IC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5084640"/>
            <a:ext cx="35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Arial Black"/>
              </a:rPr>
              <a:t>P.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lena Butterfield/Stockton LA CP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815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imals but not as we know 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s animaux en danger: Animals with a tw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lena Butterfield/Stockton LA CP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d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introduce the children to animals and descriptions in a more interesting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introduce the Global Dimension into MF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introduce a cross-curricular t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lena Butterfield/Stockton LA CP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and when I used 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om ALL publication Deutsch Lehren und Lern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ear 7 pupils within the topic of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uld be used at anytime in Year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lena Butterfield/Stockton LA CP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277040" cy="5402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lena Butterfield/Stockton LA CP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rdku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s animaux en da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lena Butterfield/Stockton LA CP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ing with the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ptions: myst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aking / Listening: Clou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lena Butterfield/Stockton LA CP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guistic Out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sheet / independent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eate a ppt / video / glogster to inform people about endangered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ideo making – Windows Moviema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logster – 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glogster.co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create and educator accou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glo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Glog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Glog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 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lena Butterfield/Stockton LA CP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happens next…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lena Butterfield/Stockton LA CP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 and resourc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zi Bewell: MFL PGCE Curriculum Area Leader,The University of York http://petitepipelette.posterous.com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chel Hawkes: SSAT Lead Practitioner, AST, AHT Comberton Village College www.rachelhawkes.typepad.c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abelle Jones: Head of MFL, The Radclyffe School, www.isabellejones.blogspot.c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Deutsch Lehren und Lernen, Spring Term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lena Butterfield/Stockton LA CP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rther 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26920" y="1700280"/>
            <a:ext cx="78487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ll-nsc.org.uk/nsc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rachelhawkes.typepad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isabellejones.blogspo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chrisharte.typepad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ilanguages.co.uk/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lena Butterfield/Stockton LA CP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 for list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1916280"/>
            <a:ext cx="8064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helenabutterfield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ww.langwitch.org/stmichaelsmf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llow me on Twitt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ww.twitter.com/langwit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7164360" y="213372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29" name="">
            <a:hlinkClick r:id="" action="ppaction://hlinkshowjump?jump=endshow"/>
          </p:cNvPr>
          <p:cNvSpPr/>
          <p:nvPr/>
        </p:nvSpPr>
        <p:spPr>
          <a:xfrm>
            <a:off x="7740720" y="558972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lena Butterfield/Stockton LA CP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427640" y="404640"/>
            <a:ext cx="4248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바탕"/>
              </a:rPr>
              <a:t>Wordle: word clou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바탕"/>
              </a:rPr>
              <a:t>www.wordle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124000" y="5084640"/>
            <a:ext cx="676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3e336"/>
                </a:solidFill>
                <a:latin typeface="Arial Rounded MT Bold"/>
              </a:rPr>
              <a:t>Go animate: Animated carto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3e336"/>
                </a:solidFill>
                <a:latin typeface="Arial Rounded MT Bold"/>
              </a:rPr>
              <a:t>www.goanimat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19640" y="3213000"/>
            <a:ext cx="53989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30bb6"/>
                </a:solidFill>
                <a:latin typeface="Agency FB"/>
              </a:rPr>
              <a:t>Wallwisher: Sticky notes on a virtual 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30bb6"/>
                </a:solidFill>
                <a:latin typeface="Agency FB"/>
              </a:rPr>
              <a:t>www.wallwisher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1844640"/>
            <a:ext cx="7561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dalus"/>
              </a:rPr>
              <a:t>Storybird: Write and collaborate on s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dalus"/>
              </a:rPr>
              <a:t>www.storybird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476280"/>
            <a:ext cx="33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93601"/>
                </a:solidFill>
                <a:latin typeface="Australian Sunrise"/>
              </a:rPr>
              <a:t>YouTub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0920" y="400536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Forte"/>
              </a:rPr>
              <a:t>Slidesh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rId1" action="ppaction://hlinksldjump"/>
          </p:cNvPr>
          <p:cNvSpPr/>
          <p:nvPr/>
        </p:nvSpPr>
        <p:spPr>
          <a:xfrm>
            <a:off x="250920" y="189000"/>
            <a:ext cx="217440" cy="215640"/>
          </a:xfrm>
          <a:custGeom>
            <a:avLst/>
            <a:gdLst>
              <a:gd name="textAreaLeft" fmla="*/ 13680 w 217440"/>
              <a:gd name="textAreaRight" fmla="*/ 203760 w 2174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780" h="21600">
                <a:moveTo>
                  <a:pt x="0" y="0"/>
                </a:moveTo>
                <a:lnTo>
                  <a:pt x="21780" y="0"/>
                </a:lnTo>
                <a:lnTo>
                  <a:pt x="21780" y="21600"/>
                </a:lnTo>
                <a:lnTo>
                  <a:pt x="0" y="21600"/>
                </a:lnTo>
                <a:close/>
              </a:path>
              <a:path fill="lightenLess" w="21780" h="21600">
                <a:moveTo>
                  <a:pt x="0" y="0"/>
                </a:moveTo>
                <a:lnTo>
                  <a:pt x="21780" y="0"/>
                </a:lnTo>
                <a:lnTo>
                  <a:pt x="20380" y="1400"/>
                </a:lnTo>
                <a:lnTo>
                  <a:pt x="1400" y="1400"/>
                </a:lnTo>
                <a:close/>
              </a:path>
              <a:path fill="darken" w="21780" h="21600">
                <a:moveTo>
                  <a:pt x="21780" y="0"/>
                </a:moveTo>
                <a:lnTo>
                  <a:pt x="21780" y="21600"/>
                </a:lnTo>
                <a:lnTo>
                  <a:pt x="20380" y="20200"/>
                </a:lnTo>
                <a:lnTo>
                  <a:pt x="20380" y="1400"/>
                </a:lnTo>
                <a:close/>
              </a:path>
              <a:path fill="darkenLess" w="21780" h="21600">
                <a:moveTo>
                  <a:pt x="21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80" y="20200"/>
                </a:lnTo>
                <a:close/>
              </a:path>
              <a:path fill="lighten" w="21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80" h="21600">
                <a:moveTo>
                  <a:pt x="3884" y="10800"/>
                </a:moveTo>
                <a:lnTo>
                  <a:pt x="17896" y="3794"/>
                </a:lnTo>
                <a:lnTo>
                  <a:pt x="1789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lena Butterfield/Stockton LA CP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40" name=""/>
          <p:cNvSpPr/>
          <p:nvPr/>
        </p:nvSpPr>
        <p:spPr>
          <a:xfrm flipV="1" rot="10800000">
            <a:off x="684000" y="1124280"/>
            <a:ext cx="7707240" cy="13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elping them to learn vocabul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lena Butterfield/Stockton LA CP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42" name=""/>
          <p:cNvSpPr/>
          <p:nvPr/>
        </p:nvSpPr>
        <p:spPr>
          <a:xfrm flipV="1" rot="10800000">
            <a:off x="1618920" y="1124640"/>
            <a:ext cx="569124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howcasing pupil 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lena Butterfield/Stockton LA CP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uture in our h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1557360"/>
            <a:ext cx="77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we want our pupils to be able to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lena Butterfield/Stockton LA CP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 rot="10800000">
            <a:off x="539640" y="764280"/>
            <a:ext cx="770760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romote independent lear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lena Butterfield/Stockton LA CP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 flipV="1" rot="10800000">
            <a:off x="539640" y="764280"/>
            <a:ext cx="770904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hare authentic mater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lena Butterfield/Stockton LA CP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-3492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 flipV="1" rot="10800000">
            <a:off x="539640" y="980280"/>
            <a:ext cx="770904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Fu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lena Butterfield/Stockton LA CP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971640" y="404640"/>
            <a:ext cx="712764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ns ma valise: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outube.com/watch?v=tgOcr_EFB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rId3" action="ppaction://hlinksldjump"/>
          </p:cNvPr>
          <p:cNvSpPr/>
          <p:nvPr/>
        </p:nvSpPr>
        <p:spPr>
          <a:xfrm>
            <a:off x="324000" y="260280"/>
            <a:ext cx="215640" cy="21600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36">
                <a:moveTo>
                  <a:pt x="0" y="0"/>
                </a:moveTo>
                <a:lnTo>
                  <a:pt x="21600" y="0"/>
                </a:lnTo>
                <a:lnTo>
                  <a:pt x="21600" y="21636"/>
                </a:lnTo>
                <a:lnTo>
                  <a:pt x="0" y="21636"/>
                </a:lnTo>
                <a:close/>
              </a:path>
              <a:path fill="lightenLess" w="21600" h="216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6">
                <a:moveTo>
                  <a:pt x="21600" y="0"/>
                </a:moveTo>
                <a:lnTo>
                  <a:pt x="21600" y="21636"/>
                </a:lnTo>
                <a:lnTo>
                  <a:pt x="20200" y="20236"/>
                </a:lnTo>
                <a:lnTo>
                  <a:pt x="20200" y="1400"/>
                </a:lnTo>
                <a:close/>
              </a:path>
              <a:path fill="darkenLess" w="21600" h="21636">
                <a:moveTo>
                  <a:pt x="21600" y="21636"/>
                </a:moveTo>
                <a:lnTo>
                  <a:pt x="0" y="21636"/>
                </a:lnTo>
                <a:lnTo>
                  <a:pt x="1400" y="20236"/>
                </a:lnTo>
                <a:lnTo>
                  <a:pt x="20200" y="20236"/>
                </a:lnTo>
                <a:close/>
              </a:path>
              <a:path fill="lighten" w="21600" h="21636">
                <a:moveTo>
                  <a:pt x="0" y="216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6"/>
                </a:lnTo>
                <a:close/>
              </a:path>
              <a:path fill="darken" w="21600" h="21636">
                <a:moveTo>
                  <a:pt x="7301" y="10818"/>
                </a:moveTo>
                <a:lnTo>
                  <a:pt x="17806" y="3812"/>
                </a:lnTo>
                <a:lnTo>
                  <a:pt x="17806" y="17824"/>
                </a:lnTo>
                <a:close/>
              </a:path>
              <a:path fill="darken" w="21600" h="21636">
                <a:moveTo>
                  <a:pt x="3794" y="3812"/>
                </a:moveTo>
                <a:lnTo>
                  <a:pt x="5456" y="3812"/>
                </a:lnTo>
                <a:lnTo>
                  <a:pt x="5456" y="17824"/>
                </a:lnTo>
                <a:lnTo>
                  <a:pt x="3794" y="1782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lena Butterfield/Stockton LA CP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8945640" cy="4857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 flipV="1" rot="10800000">
            <a:off x="539640" y="549360"/>
            <a:ext cx="770760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om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79280" y="189000"/>
            <a:ext cx="289080" cy="215640"/>
          </a:xfrm>
          <a:custGeom>
            <a:avLst/>
            <a:gdLst>
              <a:gd name="textAreaLeft" fmla="*/ 13680 w 289080"/>
              <a:gd name="textAreaRight" fmla="*/ 275400 w 2890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8944" h="21600">
                <a:moveTo>
                  <a:pt x="0" y="0"/>
                </a:moveTo>
                <a:lnTo>
                  <a:pt x="28944" y="0"/>
                </a:lnTo>
                <a:lnTo>
                  <a:pt x="28944" y="21600"/>
                </a:lnTo>
                <a:lnTo>
                  <a:pt x="0" y="21600"/>
                </a:lnTo>
                <a:close/>
              </a:path>
              <a:path fill="lightenLess" w="28944" h="21600">
                <a:moveTo>
                  <a:pt x="0" y="0"/>
                </a:moveTo>
                <a:lnTo>
                  <a:pt x="28944" y="0"/>
                </a:lnTo>
                <a:lnTo>
                  <a:pt x="27544" y="1400"/>
                </a:lnTo>
                <a:lnTo>
                  <a:pt x="1400" y="1400"/>
                </a:lnTo>
                <a:close/>
              </a:path>
              <a:path fill="darken" w="28944" h="21600">
                <a:moveTo>
                  <a:pt x="28944" y="0"/>
                </a:moveTo>
                <a:lnTo>
                  <a:pt x="28944" y="21600"/>
                </a:lnTo>
                <a:lnTo>
                  <a:pt x="27544" y="20200"/>
                </a:lnTo>
                <a:lnTo>
                  <a:pt x="27544" y="1400"/>
                </a:lnTo>
                <a:close/>
              </a:path>
              <a:path fill="darkenLess" w="28944" h="21600">
                <a:moveTo>
                  <a:pt x="28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44" y="20200"/>
                </a:lnTo>
                <a:close/>
              </a:path>
              <a:path fill="lighten" w="28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44" h="21600">
                <a:moveTo>
                  <a:pt x="7466" y="10800"/>
                </a:moveTo>
                <a:lnTo>
                  <a:pt x="21478" y="3794"/>
                </a:lnTo>
                <a:lnTo>
                  <a:pt x="2147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lena Butterfield/Stockton LA CP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 flipV="1" rot="10800000">
            <a:off x="2987640" y="188640"/>
            <a:ext cx="4176720" cy="13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eer assess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lena Butterfield/Stockton LA CP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365920"/>
                <a:gridCol w="2259360"/>
                <a:gridCol w="2259360"/>
                <a:gridCol w="2259360"/>
              </a:tblGrid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49"/>
          <p:cNvSpPr/>
          <p:nvPr/>
        </p:nvSpPr>
        <p:spPr>
          <a:xfrm>
            <a:off x="0" y="1197000"/>
            <a:ext cx="21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J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-j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0"/>
          <p:cNvSpPr/>
          <p:nvPr/>
        </p:nvSpPr>
        <p:spPr>
          <a:xfrm>
            <a:off x="2305080" y="1181160"/>
            <a:ext cx="21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W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ld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w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s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1"/>
          <p:cNvSpPr/>
          <p:nvPr/>
        </p:nvSpPr>
        <p:spPr>
          <a:xfrm>
            <a:off x="4572000" y="1125360"/>
            <a:ext cx="21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u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2"/>
          <p:cNvSpPr/>
          <p:nvPr/>
        </p:nvSpPr>
        <p:spPr>
          <a:xfrm>
            <a:off x="6913440" y="1197000"/>
            <a:ext cx="21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3"/>
          <p:cNvSpPr/>
          <p:nvPr/>
        </p:nvSpPr>
        <p:spPr>
          <a:xfrm>
            <a:off x="73080" y="2909880"/>
            <a:ext cx="21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g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4"/>
          <p:cNvSpPr/>
          <p:nvPr/>
        </p:nvSpPr>
        <p:spPr>
          <a:xfrm>
            <a:off x="2305080" y="2909880"/>
            <a:ext cx="21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Ei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5"/>
          <p:cNvSpPr/>
          <p:nvPr/>
        </p:nvSpPr>
        <p:spPr>
          <a:xfrm>
            <a:off x="4608360" y="2909880"/>
            <a:ext cx="21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6"/>
          <p:cNvSpPr/>
          <p:nvPr/>
        </p:nvSpPr>
        <p:spPr>
          <a:xfrm>
            <a:off x="7740720" y="2852640"/>
            <a:ext cx="14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i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7"/>
          <p:cNvSpPr/>
          <p:nvPr/>
        </p:nvSpPr>
        <p:spPr>
          <a:xfrm>
            <a:off x="73080" y="4565520"/>
            <a:ext cx="21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au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8"/>
          <p:cNvSpPr/>
          <p:nvPr/>
        </p:nvSpPr>
        <p:spPr>
          <a:xfrm>
            <a:off x="2195640" y="458136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Eu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9"/>
          <p:cNvSpPr/>
          <p:nvPr/>
        </p:nvSpPr>
        <p:spPr>
          <a:xfrm>
            <a:off x="4681440" y="4581360"/>
            <a:ext cx="21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äu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0"/>
          <p:cNvSpPr/>
          <p:nvPr/>
        </p:nvSpPr>
        <p:spPr>
          <a:xfrm>
            <a:off x="6877080" y="4627440"/>
            <a:ext cx="21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ö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1"/>
          <p:cNvSpPr/>
          <p:nvPr/>
        </p:nvSpPr>
        <p:spPr>
          <a:xfrm>
            <a:off x="73080" y="6294600"/>
            <a:ext cx="21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ü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2"/>
          <p:cNvSpPr/>
          <p:nvPr/>
        </p:nvSpPr>
        <p:spPr>
          <a:xfrm>
            <a:off x="2376360" y="6294600"/>
            <a:ext cx="21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ä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3"/>
          <p:cNvSpPr/>
          <p:nvPr/>
        </p:nvSpPr>
        <p:spPr>
          <a:xfrm>
            <a:off x="4537080" y="6294600"/>
            <a:ext cx="21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ei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4"/>
          <p:cNvSpPr/>
          <p:nvPr/>
        </p:nvSpPr>
        <p:spPr>
          <a:xfrm>
            <a:off x="6913440" y="6294600"/>
            <a:ext cx="219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62" descr="j0236486"/>
          <p:cNvPicPr/>
          <p:nvPr/>
        </p:nvPicPr>
        <p:blipFill>
          <a:blip r:embed="rId1"/>
          <a:stretch/>
        </p:blipFill>
        <p:spPr>
          <a:xfrm>
            <a:off x="539640" y="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3" descr="rafting1"/>
          <p:cNvPicPr/>
          <p:nvPr/>
        </p:nvPicPr>
        <p:blipFill>
          <a:blip r:embed="rId2"/>
          <a:stretch/>
        </p:blipFill>
        <p:spPr>
          <a:xfrm rot="451800">
            <a:off x="2771640" y="0"/>
            <a:ext cx="1366920" cy="11606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4" descr="MCj04382490000[1]"/>
          <p:cNvPicPr/>
          <p:nvPr/>
        </p:nvPicPr>
        <p:blipFill>
          <a:blip r:embed="rId3"/>
          <a:stretch/>
        </p:blipFill>
        <p:spPr>
          <a:xfrm>
            <a:off x="5148360" y="189000"/>
            <a:ext cx="1152360" cy="10666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5" descr="j0239631"/>
          <p:cNvPicPr/>
          <p:nvPr/>
        </p:nvPicPr>
        <p:blipFill>
          <a:blip r:embed="rId4"/>
          <a:stretch/>
        </p:blipFill>
        <p:spPr>
          <a:xfrm>
            <a:off x="7524720" y="189000"/>
            <a:ext cx="909720" cy="11523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6" descr="j0180533"/>
          <p:cNvPicPr/>
          <p:nvPr/>
        </p:nvPicPr>
        <p:blipFill>
          <a:blip r:embed="rId5"/>
          <a:stretch/>
        </p:blipFill>
        <p:spPr>
          <a:xfrm>
            <a:off x="468360" y="1916280"/>
            <a:ext cx="1511280" cy="9921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9" descr="MCj04125120000[1]"/>
          <p:cNvPicPr/>
          <p:nvPr/>
        </p:nvPicPr>
        <p:blipFill>
          <a:blip r:embed="rId6"/>
          <a:stretch/>
        </p:blipFill>
        <p:spPr>
          <a:xfrm rot="20398200">
            <a:off x="2987640" y="1773000"/>
            <a:ext cx="612720" cy="13316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70" descr="j0130891"/>
          <p:cNvPicPr/>
          <p:nvPr/>
        </p:nvPicPr>
        <p:blipFill>
          <a:blip r:embed="rId7"/>
          <a:stretch/>
        </p:blipFill>
        <p:spPr>
          <a:xfrm>
            <a:off x="5003640" y="1773360"/>
            <a:ext cx="1324080" cy="12650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1" descr="j0271136"/>
          <p:cNvPicPr/>
          <p:nvPr/>
        </p:nvPicPr>
        <p:blipFill>
          <a:blip r:embed="rId8"/>
          <a:stretch/>
        </p:blipFill>
        <p:spPr>
          <a:xfrm>
            <a:off x="7236000" y="1916280"/>
            <a:ext cx="680760" cy="13413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2" descr="j0395804"/>
          <p:cNvPicPr/>
          <p:nvPr/>
        </p:nvPicPr>
        <p:blipFill>
          <a:blip r:embed="rId9"/>
          <a:stretch/>
        </p:blipFill>
        <p:spPr>
          <a:xfrm>
            <a:off x="755640" y="3500280"/>
            <a:ext cx="927000" cy="10810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4" descr="MCj02501820000[1]"/>
          <p:cNvPicPr/>
          <p:nvPr/>
        </p:nvPicPr>
        <p:blipFill>
          <a:blip r:embed="rId10"/>
          <a:stretch/>
        </p:blipFill>
        <p:spPr>
          <a:xfrm>
            <a:off x="5292720" y="3500280"/>
            <a:ext cx="846000" cy="11527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5" descr="bxd0mz11[1]"/>
          <p:cNvPicPr/>
          <p:nvPr/>
        </p:nvPicPr>
        <p:blipFill>
          <a:blip r:embed="rId11"/>
          <a:stretch/>
        </p:blipFill>
        <p:spPr>
          <a:xfrm>
            <a:off x="7451640" y="3500280"/>
            <a:ext cx="1224000" cy="11462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76" descr="MCj01336150000[1]"/>
          <p:cNvPicPr/>
          <p:nvPr/>
        </p:nvPicPr>
        <p:blipFill>
          <a:blip r:embed="rId12"/>
          <a:stretch/>
        </p:blipFill>
        <p:spPr>
          <a:xfrm>
            <a:off x="826920" y="5157720"/>
            <a:ext cx="878040" cy="1224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7" descr="MPj03154790000[1]"/>
          <p:cNvPicPr/>
          <p:nvPr/>
        </p:nvPicPr>
        <p:blipFill>
          <a:blip r:embed="rId13"/>
          <a:stretch/>
        </p:blipFill>
        <p:spPr>
          <a:xfrm>
            <a:off x="2916360" y="5300640"/>
            <a:ext cx="1295280" cy="9176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9" descr="MCj04257900000[1]"/>
          <p:cNvPicPr/>
          <p:nvPr/>
        </p:nvPicPr>
        <p:blipFill>
          <a:blip r:embed="rId14"/>
          <a:stretch/>
        </p:blipFill>
        <p:spPr>
          <a:xfrm>
            <a:off x="5219640" y="5229360"/>
            <a:ext cx="1152720" cy="10490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3" descr="MCj04377970000[1]"/>
          <p:cNvPicPr/>
          <p:nvPr/>
        </p:nvPicPr>
        <p:blipFill>
          <a:blip r:embed="rId15"/>
          <a:stretch/>
        </p:blipFill>
        <p:spPr>
          <a:xfrm>
            <a:off x="7524720" y="5229360"/>
            <a:ext cx="1170000" cy="105228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84"/>
          <p:cNvSpPr/>
          <p:nvPr/>
        </p:nvSpPr>
        <p:spPr>
          <a:xfrm>
            <a:off x="7236000" y="616572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5" descr="http://t0.gstatic.com/images?q=tbn:Q0gsXn6MWdlJQM:http://rodgerdodger.files.wordpress.com/2008/07/barred-owl.jpg"/>
          <p:cNvPicPr/>
          <p:nvPr/>
        </p:nvPicPr>
        <p:blipFill>
          <a:blip r:embed="rId16"/>
          <a:stretch/>
        </p:blipFill>
        <p:spPr>
          <a:xfrm>
            <a:off x="3132000" y="3573360"/>
            <a:ext cx="665280" cy="935280"/>
          </a:xfrm>
          <a:prstGeom prst="rect">
            <a:avLst/>
          </a:prstGeom>
          <a:ln w="0">
            <a:noFill/>
          </a:ln>
        </p:spPr>
      </p:pic>
      <p:sp>
        <p:nvSpPr>
          <p:cNvPr id="199" name="">
            <a:hlinkClick r:id="rId17" action="ppaction://hlinksldjump"/>
          </p:cNvPr>
          <p:cNvSpPr/>
          <p:nvPr/>
        </p:nvSpPr>
        <p:spPr>
          <a:xfrm>
            <a:off x="179280" y="1197000"/>
            <a:ext cx="324000" cy="216000"/>
          </a:xfrm>
          <a:custGeom>
            <a:avLst/>
            <a:gdLst>
              <a:gd name="textAreaLeft" fmla="*/ 13680 w 324000"/>
              <a:gd name="textAreaRight" fmla="*/ 310320 w 324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32382" h="21600">
                <a:moveTo>
                  <a:pt x="0" y="0"/>
                </a:moveTo>
                <a:lnTo>
                  <a:pt x="32382" y="0"/>
                </a:lnTo>
                <a:lnTo>
                  <a:pt x="32382" y="21600"/>
                </a:lnTo>
                <a:lnTo>
                  <a:pt x="0" y="21600"/>
                </a:lnTo>
                <a:close/>
              </a:path>
              <a:path fill="lightenLess" w="32382" h="21600">
                <a:moveTo>
                  <a:pt x="0" y="0"/>
                </a:moveTo>
                <a:lnTo>
                  <a:pt x="32382" y="0"/>
                </a:lnTo>
                <a:lnTo>
                  <a:pt x="30982" y="1400"/>
                </a:lnTo>
                <a:lnTo>
                  <a:pt x="1400" y="1400"/>
                </a:lnTo>
                <a:close/>
              </a:path>
              <a:path fill="darken" w="32382" h="21600">
                <a:moveTo>
                  <a:pt x="32382" y="0"/>
                </a:moveTo>
                <a:lnTo>
                  <a:pt x="32382" y="21600"/>
                </a:lnTo>
                <a:lnTo>
                  <a:pt x="30982" y="20200"/>
                </a:lnTo>
                <a:lnTo>
                  <a:pt x="30982" y="1400"/>
                </a:lnTo>
                <a:close/>
              </a:path>
              <a:path fill="darkenLess" w="32382" h="21600">
                <a:moveTo>
                  <a:pt x="32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2" y="20200"/>
                </a:lnTo>
                <a:close/>
              </a:path>
              <a:path fill="lighten" w="32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2" h="21600">
                <a:moveTo>
                  <a:pt x="9185" y="10800"/>
                </a:moveTo>
                <a:lnTo>
                  <a:pt x="23197" y="3794"/>
                </a:lnTo>
                <a:lnTo>
                  <a:pt x="2319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lena Butterfield/Stockton LA CP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9640" y="374040"/>
            <a:ext cx="81378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Arial"/>
              </a:rPr>
              <a:t>Ton Christ est Jui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(Anonyme, Julos Beaucar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Ton Christ est juif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Ta voiture est japonaise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Ton couscous est algérien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Ta démocratie est grecque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Ton café est brésilien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Ton chianti est italien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                </a:t>
            </a: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Et tu reproches à ton voisin d'être un étranger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lena Butterfield/Stockton LA CP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403280" y="692280"/>
            <a:ext cx="6913800" cy="5056200"/>
          </a:xfrm>
          <a:prstGeom prst="rect">
            <a:avLst/>
          </a:prstGeom>
          <a:ln w="0">
            <a:noFill/>
          </a:ln>
        </p:spPr>
      </p:pic>
      <p:sp>
        <p:nvSpPr>
          <p:cNvPr id="202" name="">
            <a:hlinkClick r:id="rId2" action="ppaction://hlinksldjump"/>
          </p:cNvPr>
          <p:cNvSpPr/>
          <p:nvPr/>
        </p:nvSpPr>
        <p:spPr>
          <a:xfrm>
            <a:off x="395280" y="476280"/>
            <a:ext cx="216000" cy="2174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7440"/>
              <a:gd name="textAreaBottom" fmla="*/ 203760 h 217440"/>
            </a:gdLst>
            <a:ahLst/>
            <a:rect l="textAreaLeft" t="textAreaTop" r="textAreaRight" b="textAreaBottom"/>
            <a:pathLst>
              <a:path w="21600" h="21744">
                <a:moveTo>
                  <a:pt x="0" y="0"/>
                </a:moveTo>
                <a:lnTo>
                  <a:pt x="21600" y="0"/>
                </a:lnTo>
                <a:lnTo>
                  <a:pt x="21600" y="21744"/>
                </a:lnTo>
                <a:lnTo>
                  <a:pt x="0" y="21744"/>
                </a:lnTo>
                <a:close/>
              </a:path>
              <a:path fill="lightenLess" w="21600" h="217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44">
                <a:moveTo>
                  <a:pt x="21600" y="0"/>
                </a:moveTo>
                <a:lnTo>
                  <a:pt x="21600" y="21744"/>
                </a:lnTo>
                <a:lnTo>
                  <a:pt x="20200" y="20344"/>
                </a:lnTo>
                <a:lnTo>
                  <a:pt x="20200" y="1400"/>
                </a:lnTo>
                <a:close/>
              </a:path>
              <a:path fill="darkenLess" w="21600" h="21744">
                <a:moveTo>
                  <a:pt x="21600" y="21744"/>
                </a:moveTo>
                <a:lnTo>
                  <a:pt x="0" y="21744"/>
                </a:lnTo>
                <a:lnTo>
                  <a:pt x="1400" y="20344"/>
                </a:lnTo>
                <a:lnTo>
                  <a:pt x="20200" y="20344"/>
                </a:lnTo>
                <a:close/>
              </a:path>
              <a:path fill="lighten" w="21600" h="21744">
                <a:moveTo>
                  <a:pt x="0" y="217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44"/>
                </a:lnTo>
                <a:close/>
              </a:path>
              <a:path fill="darken" w="21600" h="21744">
                <a:moveTo>
                  <a:pt x="3794" y="10872"/>
                </a:moveTo>
                <a:lnTo>
                  <a:pt x="17806" y="3865"/>
                </a:lnTo>
                <a:lnTo>
                  <a:pt x="17806" y="1787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lena Butterfield/Stockton LA CP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06" name=""/>
          <p:cNvSpPr/>
          <p:nvPr/>
        </p:nvSpPr>
        <p:spPr>
          <a:xfrm flipV="1" rot="10800000">
            <a:off x="684000" y="1124280"/>
            <a:ext cx="7707240" cy="13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elping them to learn vocabul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lena Butterfield/Stockton LA CP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” Secondary Curricul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0" y="1341360"/>
            <a:ext cx="4176720" cy="4464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ross curri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rea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ctive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ore engaging (compelling contex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tercultural 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95280" y="1341000"/>
            <a:ext cx="3641760" cy="3529080"/>
          </a:xfrm>
          <a:prstGeom prst="rect">
            <a:avLst/>
          </a:prstGeom>
          <a:solidFill>
            <a:srgbClr val="f30bb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s prescribed content with a focus on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5013360"/>
            <a:ext cx="46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ll-nsc.org.uk/nsc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/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lena Butterfield/Stockton LA CP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 flipV="1" rot="10800000">
            <a:off x="539640" y="764280"/>
            <a:ext cx="770760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romote independent lear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lena Butterfield/Stockton LA CP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5435640" y="2781360"/>
            <a:ext cx="3097080" cy="131292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re static than a blo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>
            <a:hlinkClick r:id="rId2" action="ppaction://hlinksldjump"/>
          </p:cNvPr>
          <p:cNvSpPr/>
          <p:nvPr/>
        </p:nvSpPr>
        <p:spPr>
          <a:xfrm>
            <a:off x="324000" y="189000"/>
            <a:ext cx="215640" cy="21564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lena Butterfield/Stockton LA CP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50920" y="549360"/>
            <a:ext cx="4535280" cy="703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ww.etwinning.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lena Butterfield/Stockton LA CP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5148360" y="4869000"/>
            <a:ext cx="2735280" cy="131292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velling be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lena Butterfield/Stockton LA CP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627280" y="4437000"/>
            <a:ext cx="6120000" cy="192240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ki project (in English) with France, Italy, Turkey, Romania, Po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lena Butterfield/Stockton LA CP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619280" y="549360"/>
            <a:ext cx="4768920" cy="48974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5867280" y="4581360"/>
            <a:ext cx="2952720" cy="192240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le class letter ex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324000" y="33336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lena Butterfield/Stockton LA CP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76000" y="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ig pi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24000" y="1203480"/>
            <a:ext cx="8424720" cy="5654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lena Butterfield/Stockton LA CP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inging it all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C:\Users\Isabelle\Desktop\ScreenHunter_04 Apr. 10 12.51.gif"/>
          <p:cNvPicPr/>
          <p:nvPr/>
        </p:nvPicPr>
        <p:blipFill>
          <a:blip r:embed="rId1"/>
          <a:stretch/>
        </p:blipFill>
        <p:spPr>
          <a:xfrm>
            <a:off x="2195640" y="1268280"/>
            <a:ext cx="4608360" cy="4364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487960" y="5805360"/>
            <a:ext cx="436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ll-nsc.org.uk/nsc/?q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=node/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lena Butterfield/Stockton LA CP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1916280"/>
            <a:ext cx="4319640" cy="7034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Previous lear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292720" y="2492280"/>
            <a:ext cx="3166920" cy="1312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Mixed experi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4221000"/>
            <a:ext cx="4824360" cy="1922400"/>
          </a:xfrm>
          <a:prstGeom prst="rect">
            <a:avLst/>
          </a:prstGeom>
          <a:solidFill>
            <a:srgbClr val="f0f6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hat can we learn from Primary Langu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lena Butterfield/Stockton LA CP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an we put this into pract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26920" y="3284640"/>
            <a:ext cx="252108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Stories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1" action="ppaction://hlinksldjump"/>
          </p:cNvPr>
          <p:cNvSpPr/>
          <p:nvPr/>
        </p:nvSpPr>
        <p:spPr>
          <a:xfrm>
            <a:off x="684360" y="1484280"/>
            <a:ext cx="2447640" cy="1297080"/>
          </a:xfrm>
          <a:custGeom>
            <a:avLst/>
            <a:gdLst>
              <a:gd name="textAreaLeft" fmla="*/ 83880 w 2447640"/>
              <a:gd name="textAreaRight" fmla="*/ 2363760 w 2447640"/>
              <a:gd name="textAreaTop" fmla="*/ 83880 h 1297080"/>
              <a:gd name="textAreaBottom" fmla="*/ 1213200 h 1297080"/>
            </a:gdLst>
            <a:ahLst/>
            <a:rect l="textAreaLeft" t="textAreaTop" r="textAreaRight" b="textAreaBottom"/>
            <a:pathLst>
              <a:path w="40755" h="21600">
                <a:moveTo>
                  <a:pt x="0" y="0"/>
                </a:moveTo>
                <a:lnTo>
                  <a:pt x="40755" y="0"/>
                </a:lnTo>
                <a:lnTo>
                  <a:pt x="40755" y="21600"/>
                </a:lnTo>
                <a:lnTo>
                  <a:pt x="0" y="21600"/>
                </a:lnTo>
                <a:close/>
              </a:path>
              <a:path fill="lightenLess" w="40755" h="21600">
                <a:moveTo>
                  <a:pt x="0" y="0"/>
                </a:moveTo>
                <a:lnTo>
                  <a:pt x="40755" y="0"/>
                </a:lnTo>
                <a:lnTo>
                  <a:pt x="39355" y="1400"/>
                </a:lnTo>
                <a:lnTo>
                  <a:pt x="1400" y="1400"/>
                </a:lnTo>
                <a:close/>
              </a:path>
              <a:path fill="darken" w="40755" h="21600">
                <a:moveTo>
                  <a:pt x="40755" y="0"/>
                </a:moveTo>
                <a:lnTo>
                  <a:pt x="40755" y="21600"/>
                </a:lnTo>
                <a:lnTo>
                  <a:pt x="39355" y="20200"/>
                </a:lnTo>
                <a:lnTo>
                  <a:pt x="39355" y="1400"/>
                </a:lnTo>
                <a:close/>
              </a:path>
              <a:path fill="darkenLess" w="40755" h="21600">
                <a:moveTo>
                  <a:pt x="407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355" y="20200"/>
                </a:lnTo>
                <a:close/>
              </a:path>
              <a:path fill="lighten" w="407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42920" y="1773360"/>
            <a:ext cx="16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3e336"/>
                </a:solidFill>
                <a:latin typeface="Arial"/>
              </a:rPr>
              <a:t>So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2" action="ppaction://hlinksldjump"/>
          </p:cNvPr>
          <p:cNvSpPr/>
          <p:nvPr/>
        </p:nvSpPr>
        <p:spPr>
          <a:xfrm>
            <a:off x="5651640" y="1484280"/>
            <a:ext cx="2808000" cy="1224000"/>
          </a:xfrm>
          <a:custGeom>
            <a:avLst/>
            <a:gdLst>
              <a:gd name="textAreaLeft" fmla="*/ 79200 w 2808000"/>
              <a:gd name="textAreaRight" fmla="*/ 2728800 w 280800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49545" h="21600">
                <a:moveTo>
                  <a:pt x="0" y="0"/>
                </a:moveTo>
                <a:lnTo>
                  <a:pt x="49545" y="0"/>
                </a:lnTo>
                <a:lnTo>
                  <a:pt x="49545" y="21600"/>
                </a:lnTo>
                <a:lnTo>
                  <a:pt x="0" y="21600"/>
                </a:lnTo>
                <a:close/>
              </a:path>
              <a:path fill="lightenLess" w="49545" h="21600">
                <a:moveTo>
                  <a:pt x="0" y="0"/>
                </a:moveTo>
                <a:lnTo>
                  <a:pt x="49545" y="0"/>
                </a:lnTo>
                <a:lnTo>
                  <a:pt x="48145" y="1400"/>
                </a:lnTo>
                <a:lnTo>
                  <a:pt x="1400" y="1400"/>
                </a:lnTo>
                <a:close/>
              </a:path>
              <a:path fill="darken" w="49545" h="21600">
                <a:moveTo>
                  <a:pt x="49545" y="0"/>
                </a:moveTo>
                <a:lnTo>
                  <a:pt x="49545" y="21600"/>
                </a:lnTo>
                <a:lnTo>
                  <a:pt x="48145" y="20200"/>
                </a:lnTo>
                <a:lnTo>
                  <a:pt x="48145" y="1400"/>
                </a:lnTo>
                <a:close/>
              </a:path>
              <a:path fill="darkenLess" w="49545" h="21600">
                <a:moveTo>
                  <a:pt x="495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145" y="20200"/>
                </a:lnTo>
                <a:close/>
              </a:path>
              <a:path fill="lighten" w="495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1700280"/>
            <a:ext cx="208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62704"/>
                </a:solidFill>
                <a:latin typeface="Arial"/>
              </a:rPr>
              <a:t>Phon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rId3" action="ppaction://hlinksldjump"/>
          </p:cNvPr>
          <p:cNvSpPr/>
          <p:nvPr/>
        </p:nvSpPr>
        <p:spPr>
          <a:xfrm>
            <a:off x="5076720" y="4941720"/>
            <a:ext cx="2880000" cy="935280"/>
          </a:xfrm>
          <a:custGeom>
            <a:avLst/>
            <a:gdLst>
              <a:gd name="textAreaLeft" fmla="*/ 60480 w 2880000"/>
              <a:gd name="textAreaRight" fmla="*/ 2819520 w 2880000"/>
              <a:gd name="textAreaTop" fmla="*/ 60480 h 935280"/>
              <a:gd name="textAreaBottom" fmla="*/ 874800 h 935280"/>
            </a:gdLst>
            <a:ahLst/>
            <a:rect l="textAreaLeft" t="textAreaTop" r="textAreaRight" b="textAreaBottom"/>
            <a:pathLst>
              <a:path w="66495" h="21600">
                <a:moveTo>
                  <a:pt x="0" y="0"/>
                </a:moveTo>
                <a:lnTo>
                  <a:pt x="66495" y="0"/>
                </a:lnTo>
                <a:lnTo>
                  <a:pt x="66495" y="21600"/>
                </a:lnTo>
                <a:lnTo>
                  <a:pt x="0" y="21600"/>
                </a:lnTo>
                <a:close/>
              </a:path>
              <a:path fill="lightenLess" w="66495" h="21600">
                <a:moveTo>
                  <a:pt x="0" y="0"/>
                </a:moveTo>
                <a:lnTo>
                  <a:pt x="66495" y="0"/>
                </a:lnTo>
                <a:lnTo>
                  <a:pt x="65095" y="1400"/>
                </a:lnTo>
                <a:lnTo>
                  <a:pt x="1400" y="1400"/>
                </a:lnTo>
                <a:close/>
              </a:path>
              <a:path fill="darken" w="66495" h="21600">
                <a:moveTo>
                  <a:pt x="66495" y="0"/>
                </a:moveTo>
                <a:lnTo>
                  <a:pt x="66495" y="21600"/>
                </a:lnTo>
                <a:lnTo>
                  <a:pt x="65095" y="20200"/>
                </a:lnTo>
                <a:lnTo>
                  <a:pt x="65095" y="1400"/>
                </a:lnTo>
                <a:close/>
              </a:path>
              <a:path fill="darkenLess" w="66495" h="21600">
                <a:moveTo>
                  <a:pt x="664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095" y="20200"/>
                </a:lnTo>
                <a:close/>
              </a:path>
              <a:path fill="lighten" w="664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508464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Poet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4" action="ppaction://hlinksldjump"/>
          </p:cNvPr>
          <p:cNvSpPr/>
          <p:nvPr/>
        </p:nvSpPr>
        <p:spPr>
          <a:xfrm>
            <a:off x="4356000" y="3357720"/>
            <a:ext cx="4608720" cy="863280"/>
          </a:xfrm>
          <a:custGeom>
            <a:avLst/>
            <a:gdLst>
              <a:gd name="textAreaLeft" fmla="*/ 55800 w 4608720"/>
              <a:gd name="textAreaRight" fmla="*/ 4552920 w 4608720"/>
              <a:gd name="textAreaTop" fmla="*/ 55800 h 863280"/>
              <a:gd name="textAreaBottom" fmla="*/ 807480 h 863280"/>
            </a:gdLst>
            <a:ahLst/>
            <a:rect l="textAreaLeft" t="textAreaTop" r="textAreaRight" b="textAreaBottom"/>
            <a:pathLst>
              <a:path w="115275" h="21600">
                <a:moveTo>
                  <a:pt x="0" y="0"/>
                </a:moveTo>
                <a:lnTo>
                  <a:pt x="115275" y="0"/>
                </a:lnTo>
                <a:lnTo>
                  <a:pt x="115275" y="21600"/>
                </a:lnTo>
                <a:lnTo>
                  <a:pt x="0" y="21600"/>
                </a:lnTo>
                <a:close/>
              </a:path>
              <a:path fill="lightenLess" w="115275" h="21600">
                <a:moveTo>
                  <a:pt x="0" y="0"/>
                </a:moveTo>
                <a:lnTo>
                  <a:pt x="115275" y="0"/>
                </a:lnTo>
                <a:lnTo>
                  <a:pt x="113875" y="1400"/>
                </a:lnTo>
                <a:lnTo>
                  <a:pt x="1400" y="1400"/>
                </a:lnTo>
                <a:close/>
              </a:path>
              <a:path fill="darken" w="115275" h="21600">
                <a:moveTo>
                  <a:pt x="115275" y="0"/>
                </a:moveTo>
                <a:lnTo>
                  <a:pt x="115275" y="21600"/>
                </a:lnTo>
                <a:lnTo>
                  <a:pt x="113875" y="20200"/>
                </a:lnTo>
                <a:lnTo>
                  <a:pt x="113875" y="1400"/>
                </a:lnTo>
                <a:close/>
              </a:path>
              <a:path fill="darkenLess" w="115275" h="21600">
                <a:moveTo>
                  <a:pt x="1152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875" y="20200"/>
                </a:lnTo>
                <a:close/>
              </a:path>
              <a:path fill="lighten" w="1152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88000" y="342900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nternational lin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5" action="ppaction://hlinksldjump"/>
          </p:cNvPr>
          <p:cNvSpPr/>
          <p:nvPr/>
        </p:nvSpPr>
        <p:spPr>
          <a:xfrm>
            <a:off x="611280" y="5157720"/>
            <a:ext cx="2305080" cy="1079640"/>
          </a:xfrm>
          <a:custGeom>
            <a:avLst/>
            <a:gdLst>
              <a:gd name="textAreaLeft" fmla="*/ 69840 w 2305080"/>
              <a:gd name="textAreaRight" fmla="*/ 2235240 w 2305080"/>
              <a:gd name="textAreaTop" fmla="*/ 69840 h 1079640"/>
              <a:gd name="textAreaBottom" fmla="*/ 1009800 h 1079640"/>
            </a:gdLst>
            <a:ahLst/>
            <a:rect l="textAreaLeft" t="textAreaTop" r="textAreaRight" b="textAreaBottom"/>
            <a:pathLst>
              <a:path w="46109" h="21600">
                <a:moveTo>
                  <a:pt x="0" y="0"/>
                </a:moveTo>
                <a:lnTo>
                  <a:pt x="46109" y="0"/>
                </a:lnTo>
                <a:lnTo>
                  <a:pt x="46109" y="21600"/>
                </a:lnTo>
                <a:lnTo>
                  <a:pt x="0" y="21600"/>
                </a:lnTo>
                <a:close/>
              </a:path>
              <a:path fill="lightenLess" w="46109" h="21600">
                <a:moveTo>
                  <a:pt x="0" y="0"/>
                </a:moveTo>
                <a:lnTo>
                  <a:pt x="46109" y="0"/>
                </a:lnTo>
                <a:lnTo>
                  <a:pt x="44709" y="1400"/>
                </a:lnTo>
                <a:lnTo>
                  <a:pt x="1400" y="1400"/>
                </a:lnTo>
                <a:close/>
              </a:path>
              <a:path fill="darken" w="46109" h="21600">
                <a:moveTo>
                  <a:pt x="46109" y="0"/>
                </a:moveTo>
                <a:lnTo>
                  <a:pt x="46109" y="21600"/>
                </a:lnTo>
                <a:lnTo>
                  <a:pt x="44709" y="20200"/>
                </a:lnTo>
                <a:lnTo>
                  <a:pt x="44709" y="1400"/>
                </a:lnTo>
                <a:close/>
              </a:path>
              <a:path fill="darkenLess" w="46109" h="21600">
                <a:moveTo>
                  <a:pt x="461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709" y="20200"/>
                </a:lnTo>
                <a:close/>
              </a:path>
              <a:path fill="lighten" w="461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42920" y="5300640"/>
            <a:ext cx="1152720" cy="764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0bb6"/>
                </a:solidFill>
                <a:latin typeface="Arial"/>
              </a:rPr>
              <a:t>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lena Butterfield/Stockton LA CP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ing a real aud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2781360"/>
            <a:ext cx="8424720" cy="1993320"/>
          </a:xfrm>
          <a:prstGeom prst="rect">
            <a:avLst/>
          </a:prstGeom>
          <a:solidFill>
            <a:srgbClr val="f627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Podca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Explain –er verbs / irregular verbs / explain anything / pronunciatio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940360" y="1484280"/>
            <a:ext cx="2737080" cy="916920"/>
          </a:xfrm>
          <a:prstGeom prst="rect">
            <a:avLst/>
          </a:prstGeom>
          <a:solidFill>
            <a:srgbClr val="f30b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Arial"/>
              </a:rPr>
              <a:t>Lette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rId1" action="ppaction://hlinksldjump"/>
          </p:cNvPr>
          <p:cNvSpPr/>
          <p:nvPr/>
        </p:nvSpPr>
        <p:spPr>
          <a:xfrm>
            <a:off x="179280" y="1197000"/>
            <a:ext cx="5616720" cy="1368360"/>
          </a:xfrm>
          <a:custGeom>
            <a:avLst/>
            <a:gdLst>
              <a:gd name="textAreaLeft" fmla="*/ 88560 w 5616720"/>
              <a:gd name="textAreaRight" fmla="*/ 5528160 w 5616720"/>
              <a:gd name="textAreaTop" fmla="*/ 88560 h 1368360"/>
              <a:gd name="textAreaBottom" fmla="*/ 1279800 h 1368360"/>
            </a:gdLst>
            <a:ahLst/>
            <a:rect l="textAreaLeft" t="textAreaTop" r="textAreaRight" b="textAreaBottom"/>
            <a:pathLst>
              <a:path w="88644" h="21600">
                <a:moveTo>
                  <a:pt x="0" y="0"/>
                </a:moveTo>
                <a:lnTo>
                  <a:pt x="88644" y="0"/>
                </a:lnTo>
                <a:lnTo>
                  <a:pt x="88644" y="21600"/>
                </a:lnTo>
                <a:lnTo>
                  <a:pt x="0" y="21600"/>
                </a:lnTo>
                <a:close/>
              </a:path>
              <a:path fill="lightenLess" w="88644" h="21600">
                <a:moveTo>
                  <a:pt x="0" y="0"/>
                </a:moveTo>
                <a:lnTo>
                  <a:pt x="88644" y="0"/>
                </a:lnTo>
                <a:lnTo>
                  <a:pt x="87244" y="1400"/>
                </a:lnTo>
                <a:lnTo>
                  <a:pt x="1400" y="1400"/>
                </a:lnTo>
                <a:close/>
              </a:path>
              <a:path fill="darken" w="88644" h="21600">
                <a:moveTo>
                  <a:pt x="88644" y="0"/>
                </a:moveTo>
                <a:lnTo>
                  <a:pt x="88644" y="21600"/>
                </a:lnTo>
                <a:lnTo>
                  <a:pt x="87244" y="20200"/>
                </a:lnTo>
                <a:lnTo>
                  <a:pt x="87244" y="1400"/>
                </a:lnTo>
                <a:close/>
              </a:path>
              <a:path fill="darkenLess" w="88644" h="21600">
                <a:moveTo>
                  <a:pt x="886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7244" y="20200"/>
                </a:lnTo>
                <a:close/>
              </a:path>
              <a:path fill="lighten" w="886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13e3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1268280"/>
            <a:ext cx="48974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B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langwitch.org/stmichaelsmf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900000" y="5300640"/>
            <a:ext cx="5977080" cy="1297080"/>
          </a:xfrm>
          <a:custGeom>
            <a:avLst/>
            <a:gdLst>
              <a:gd name="textAreaLeft" fmla="*/ 83880 w 5977080"/>
              <a:gd name="textAreaRight" fmla="*/ 5893200 w 5977080"/>
              <a:gd name="textAreaTop" fmla="*/ 83880 h 1297080"/>
              <a:gd name="textAreaBottom" fmla="*/ 1213200 h 1297080"/>
            </a:gdLst>
            <a:ahLst/>
            <a:rect l="textAreaLeft" t="textAreaTop" r="textAreaRight" b="textAreaBottom"/>
            <a:pathLst>
              <a:path w="99513" h="21600">
                <a:moveTo>
                  <a:pt x="0" y="0"/>
                </a:moveTo>
                <a:lnTo>
                  <a:pt x="99513" y="0"/>
                </a:lnTo>
                <a:lnTo>
                  <a:pt x="99513" y="21600"/>
                </a:lnTo>
                <a:lnTo>
                  <a:pt x="0" y="21600"/>
                </a:lnTo>
                <a:close/>
              </a:path>
              <a:path fill="lightenLess" w="99513" h="21600">
                <a:moveTo>
                  <a:pt x="0" y="0"/>
                </a:moveTo>
                <a:lnTo>
                  <a:pt x="99513" y="0"/>
                </a:lnTo>
                <a:lnTo>
                  <a:pt x="98113" y="1400"/>
                </a:lnTo>
                <a:lnTo>
                  <a:pt x="1400" y="1400"/>
                </a:lnTo>
                <a:close/>
              </a:path>
              <a:path fill="darken" w="99513" h="21600">
                <a:moveTo>
                  <a:pt x="99513" y="0"/>
                </a:moveTo>
                <a:lnTo>
                  <a:pt x="99513" y="21600"/>
                </a:lnTo>
                <a:lnTo>
                  <a:pt x="98113" y="20200"/>
                </a:lnTo>
                <a:lnTo>
                  <a:pt x="98113" y="1400"/>
                </a:lnTo>
                <a:close/>
              </a:path>
              <a:path fill="darkenLess" w="99513" h="21600">
                <a:moveTo>
                  <a:pt x="99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113" y="20200"/>
                </a:lnTo>
                <a:close/>
              </a:path>
              <a:path fill="lighten" w="99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19280" y="5373720"/>
            <a:ext cx="46814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62704"/>
                </a:solidFill>
                <a:latin typeface="Arial"/>
              </a:rPr>
              <a:t>Wik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62704"/>
                </a:solidFill>
                <a:latin typeface="Arial"/>
              </a:rPr>
              <a:t>www.langwitch.wikispace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lena Butterfield/Stockton LA CP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8:02:08Z</dcterms:created>
  <dc:creator>Helena</dc:creator>
  <dc:description/>
  <dc:language>en-US</dc:language>
  <cp:lastModifiedBy>Helena</cp:lastModifiedBy>
  <dcterms:modified xsi:type="dcterms:W3CDTF">2010-10-21T21:20:53Z</dcterms:modified>
  <cp:revision>7</cp:revision>
  <dc:subject/>
  <dc:title>Spicing up your Y7 SOW</dc:title>
</cp:coreProperties>
</file>